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022-5C7D-4A90-9AA7-00025DB4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CBD2-62A4-4F22-9BF3-E549050B0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67B-2B85-442E-8212-D0745278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D48-E92E-456C-BA01-31D2D3AB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7C6F2-BED7-489B-8D47-19682B5D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53FB9-E725-4DE1-852D-EA1A654B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DEE13-1DE3-43CA-B2ED-BA0D8A4D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A8EA2-57F4-407A-A3A0-933A06D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DEFA2-C682-440B-9EB0-927D31C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03BE7-9B9E-4549-9DF8-15DCF32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4CC5F-5875-40FB-BAD0-7CFB091F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848A-1E49-4C1C-8CBD-0C9D7843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9F033-EB01-41C4-B4E1-9D5CEA12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B21AF-D996-432E-9352-8F72DE18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AEC-AD66-4647-91E6-7B20C939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F7826-D54D-42B8-A3DD-A6406F3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F9697-CC20-4DE9-AB33-1DF481B2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E61A7-3A86-4A84-A01B-062306F0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7A369-3930-4800-B35D-7F7ED2ED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28EFD-8433-4C86-858F-44943CA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4C094-9BA1-4950-8906-0DEB252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903A2-33DE-4B32-829E-F476215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7A09F-B592-46A5-BD9C-03FF8E7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635E6-A23E-4778-9875-94D3AC3F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4DBAA-D0C7-4B81-BF03-EA0BEB5B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601-F0AB-417C-BD07-26B324CF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6C44F-312E-492B-BEFA-BAB36AF2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C85DB-21A3-458C-9EEC-A06E0866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7D1F0-8C68-4ABA-B5DB-4E13FB38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5F37D-0831-4958-BB30-E2DB076D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FD8B9-7AF2-4652-A832-7A902B42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23D66-01B5-40C2-8EBC-EAC710A7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EA010-D4C5-462D-8646-41EC527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D5DB8-DAED-4632-A560-58EBCC50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5367A-941A-43A6-B1B0-466BB13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490E-832A-4308-8B56-49BAB7F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74A2-3217-4C5F-AE15-F5848BAC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B1241-0C3A-42CC-8FDF-D54DAC06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A46EA-196C-4353-848C-B8977F1A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6628-E148-49C7-B3AE-EC438151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C9901-F223-440A-9D5F-61A0D836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A0916-8FC1-4F2B-B061-E5217B86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A489F-C9D1-4BD4-8E02-926B6A2C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B2F00-D126-4D18-B09A-F987C74C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BA438-B70C-4F61-B22C-439B9815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F0EDF-D195-432C-9EC2-F3EC080B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DA521-9A70-4FE3-9CB1-0683F50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CB7-8634-42B2-B7E8-C98D6836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E10F2-1096-4FD3-A8E2-E2394CE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44AE0-359F-41A2-980E-493301B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A07F6-FFCA-4E3B-82D7-0964BB2B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6F55E-9DB7-4708-83E5-A2A4EAFC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56825-284D-430E-9E38-A8AA8AF2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1FF-01EB-461C-8A96-DBD0BED3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C38B-6379-46AE-B7F0-8B51A324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E0AD-6A7A-4A0E-97DF-04F23DB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F798-C097-49CB-AE0D-D0EE1B5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8402-0294-4476-96FC-2FE4033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131-37A8-4922-BECA-A603050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1A74-4B0A-4AE1-AD23-50FB879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C3E1-FCDB-45AC-BB9E-878B26F3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7D05-07B5-44A9-ABED-E967F5AD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6DE7-4C42-4F9A-A1FA-25C67823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3A7F-A917-4948-8CA6-FAAA027B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2AFB-6335-482F-91E5-CA28670F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C932-4DB9-4A1C-982F-9DCE28BC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6BFF-02D4-4639-AD37-5B25C09E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1DF9-8B08-4108-8F2F-F4A3CA25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4C29-9520-4779-898E-2CF8F49D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FDB-7770-4288-864D-451774E7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99BD-B00B-4D28-A175-69C962C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287A-FB79-4309-B41F-54EA1AC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B3C7-93A4-4706-A0D3-D41EEB8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C3DD-A011-476E-80FA-6E08B55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9D12-3331-4028-9B18-43FA75DD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9E85-284E-4532-A516-BF5E3EFB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3367-DFE5-490D-83EB-90A0B81C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7249-E5E6-4699-B68A-FD41D57C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6B0D-8F59-4CE5-8CA8-7514F9F9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215C-897C-4AB3-B010-BB198C73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B52-FD4A-4527-888C-3F0B690F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DEC8-DB85-489E-AF03-BD81BFD1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EFFF-B19E-4D77-8278-A3318100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46E5-A9B6-41C9-AEC5-254E8C8C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0570-E250-4433-82EB-4AC2C587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A7A6-295B-471D-805A-2ED73E6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6560-412A-4D2F-8442-1EC9C1E3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F24F-7ED8-4AE5-8D66-D120A509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AF51-937D-4537-B18B-75C81B6A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77AE-1CF3-463F-9660-FFDE1209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595B-715B-479D-B35E-85E7F63D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418-CD28-47C8-9572-776E48E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D136-9AF6-4A66-9121-BCAC504F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332B-295F-4680-8882-5C53152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0024-7BDE-48A3-B07F-FF431789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59697-1BE7-463F-AA5F-FE9B7224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84EA-6662-4EB1-8724-AA2F410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E0A7-A56D-498E-9B3D-56E1593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2D6F-3D73-4F3E-9459-DF65D8F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8F7C-3345-48FA-B125-99C549C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A59B2-93A3-44B6-9D4E-FE9670F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7D55-A7D8-418A-A999-E836A0C3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FEC-9BE1-4775-B60A-33ABC3B4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4F00-80A3-45DC-957B-AC5A8210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C7346-F737-4DDB-A0B1-9F88439E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D91F-BCDC-4677-AB1D-37C3A7ED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26BB3-FB36-4D90-8795-DAFA75A5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ACBC-C7D4-4587-9874-650BB6FA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BB142-C35B-4904-ADCF-C901B35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B096D-E800-4B6D-916D-296FDED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017C-37B8-4481-8DA1-316EA2D0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341C-F892-415B-99A5-53E7CA3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4472D-31D2-41F4-A94F-EAEAD64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90D-3055-46BB-A2A0-E0DED71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D994F-E628-4B5E-A858-4B1A704C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DF742-73F2-43AD-B276-2101571B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5056-7ADE-4C51-B9E0-34CE445A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EC7F1-C6A1-4C6F-9D06-90302438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58A1D-2301-476F-AF4C-E2A833C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A8CEE-BCF0-48FC-BDD5-A736FAF6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60A3-3AE2-4D18-AF64-E9B936F9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5FCB-DC65-4F61-97CF-B2DAE80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15322-FDDC-45DD-902C-4079732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7A9C-48D6-485E-A97B-F7C38F0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69A-8142-4DFA-9985-09769EC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AA7C-15E8-4FCE-B72F-671E14B7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3FEE9-CC2A-4118-AD79-D042118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268F6-1798-4582-A80D-2E113504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3DF00-D2DA-42E2-B032-1E4F5619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9525-9A5E-4C58-8F2D-A6FF637E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33E94-DE0E-4FFE-86C2-46C186A0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BBF8-145E-47AA-B729-C1D13C6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C91E-B24C-428B-A2C3-64C36027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8F172-9064-4E78-9493-E012D421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2C531-FDF4-443E-80E6-4C1B93E0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436-03B3-43DF-878A-93D4FAE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BBB61-5716-4A84-AA9A-1AEC4489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251A9-7F86-485B-8D72-34EE4FB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CFD03-81F6-4B49-B236-FE60916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CE738-F6B3-4CF1-A485-C95E936F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BA18-E6C1-4FC8-A943-4842E568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651D1-470D-46B6-9306-87C62BE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896B-4125-4B72-9CCC-61AF2974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52F5B-53D1-4383-B5EE-549C9C99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AE077-4AD2-45A0-9923-D52871D3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BBB48-B3DF-4768-8C42-68A819AE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5B1-6F8F-4B0E-AE79-CED06F6FA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6D5F-79C5-47B6-B455-6D147059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F2BA-DD9D-4AC3-BCC9-9A8E8EF29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C06F-24DE-4D16-B150-7040EE3D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A57-C906-4760-BE22-E9E6EE86D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8871-8A4E-4256-AD9A-85FA0997E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5A88-2471-4B83-8EA2-6E2D9020B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164-4674-45F1-822B-21083E786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07A5-E82A-4C4B-B2B1-13AC60197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D940-E447-4B1C-921C-3D0D958FF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794-E44D-4F30-91A3-4D6829DE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191C-56E2-445E-8736-C6A7534E9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spel Order – The Way of the New Coven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principles of Gospe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Principles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spel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826920" y="2351160"/>
            <a:ext cx="7632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ruth is a revealed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826920" y="3719520"/>
            <a:ext cx="7632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uses human channels to reveal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826920" y="5087880"/>
            <a:ext cx="7632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chooses His me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ru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vea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58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not to be of human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e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:1-3; 22:18,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enger does not think up the message, he only passes on that which he rece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tth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4:13-2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0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rist’s Object Lesson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1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ciple reveals our dependence on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Corinth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7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9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new covenant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od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4:30-3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riarchs and Prophe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90.1; 493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br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is principle victories are g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Chroni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eviation from this principle leads to r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s of the Apostl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8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um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ve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spel commission is given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6:15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96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ject the human channel is to reject Ch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4:1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 Samu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:7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u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:1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89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lat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is God’s messenger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u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:16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cts of the Apostl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2.3, 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insult to God is to reject His me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riarchs and Prophe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2.1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esire of A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24.3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imonies for the Chu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:68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ew covenant principle. It is the mystery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Corinth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7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oss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: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o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is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enger is chosen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orinth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: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tend to listen to messengers of thei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Tim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grievous sin if we listen to the messengers of ou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esir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g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2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does not communicate through other channels if we reject the messenger He cho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atriarch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rophe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7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new covenant principle because it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ea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 to depend on Go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d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Cove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55640" y="249228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truth is a reveale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55640" y="3860640"/>
            <a:ext cx="3457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uses human channels to reveal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55640" y="522936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chooses His me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5075280" y="249228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trut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own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5075280" y="3860640"/>
            <a:ext cx="34574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ust find the truth myself, independent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5075280" y="5229360"/>
            <a:ext cx="34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cho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ight me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755640" y="14842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spel Order under the New Cov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5076720" y="14842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counterfeit under the Old Cov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5:38:57Z</dcterms:created>
  <dc:creator>Andreas Dura</dc:creator>
  <dc:description/>
  <dc:language>en-US</dc:language>
  <cp:lastModifiedBy>Frank Zimmerman</cp:lastModifiedBy>
  <dcterms:modified xsi:type="dcterms:W3CDTF">2025-05-11T05:30:31Z</dcterms:modified>
  <cp:revision>16</cp:revision>
  <dc:subject/>
  <dc:title>Gospel Order – A New Covenant Order </dc:title>
</cp:coreProperties>
</file>